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Box 4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1"/>
          </p:nvPr>
        </p:nvSpPr>
        <p:spPr>
          <a:xfrm>
            <a:off x="3000240" y="5929200"/>
            <a:ext cx="28958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f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2"/>
          </p:nvPr>
        </p:nvSpPr>
        <p:spPr>
          <a:xfrm>
            <a:off x="3000240" y="5929200"/>
            <a:ext cx="28958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of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59292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GEM databas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49291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Nataša Šarli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Calibri"/>
              </a:rPr>
              <a:t>January, 201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0043"/>
                </a:solidFill>
                <a:latin typeface="Calibri"/>
              </a:rPr>
              <a:t>2</a:t>
            </a:r>
            <a:r>
              <a:rPr b="1" lang="hr-HR" sz="4400" spc="-1" strike="noStrike">
                <a:solidFill>
                  <a:srgbClr val="c40043"/>
                </a:solidFill>
                <a:latin typeface="Calibri"/>
              </a:rPr>
              <a:t> basic datasets: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P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ult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pulation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rve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ample of adult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as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tional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xpert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rve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ample of entrepreneurs and experts in entre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40043"/>
                </a:solidFill>
                <a:latin typeface="Calibri"/>
              </a:rPr>
              <a:t>APS (Adult Polulation Survey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000 respondents (18-64 years of age) each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lock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Entrepren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Business 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ential entrepreneurs and discontinu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Attitudes about entrepreneu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formal inves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novation/Entrepreneurial employee activ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40043"/>
                </a:solidFill>
                <a:latin typeface="Calibri"/>
              </a:rPr>
              <a:t>NES (National Expert Survey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round 40 entrepreneurs and experts in entrepreneurship each ye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loc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Government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Governmental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Education and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&amp;D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Commerical and services infrastructure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0:27:33Z</dcterms:created>
  <dc:creator>Mirta</dc:creator>
  <dc:description/>
  <dc:language>en-US</dc:language>
  <cp:lastModifiedBy>Natasa Sarlija</cp:lastModifiedBy>
  <dcterms:modified xsi:type="dcterms:W3CDTF">2017-01-08T06:05:59Z</dcterms:modified>
  <cp:revision>31</cp:revision>
  <dc:subject/>
  <dc:title>Slide 1</dc:title>
</cp:coreProperties>
</file>